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53A7-4AA7-4057-985A-DA87C5A46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93F1-CBCF-4ED8-A653-5C3910326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E5A5-6C0F-4DF9-86EC-B2BF6DBF9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3004-D0F9-44B2-AC1E-190B82198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DCC5B-6C7C-40D0-8314-46A1A6D98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A739F-0491-4CFE-8760-6B60ADC7C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9599C-F08F-4F8B-BCDD-30A96AB3A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EDE8B-16A4-4765-A9CB-1C921DF6F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4ECF9-0198-4D6E-8B0E-4F1D6E9ED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FB07B-FF95-44CD-8D42-CD4AEC6B2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1D0FF-4456-453E-BD2B-89899F3CA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8F5B-74B2-452C-9C97-B290B18A8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F7C39-5B05-48CB-9831-AE2721968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F81CA-A744-4B38-AD81-E71A50CED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495C9-C257-4DE4-A42D-B6E4B32B8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D47B6-91B7-4141-B604-58AA9E6F4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59C1F-0517-4D13-AD9A-2979D6FA8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6B45D-1ABA-48CB-8026-26E0B9395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5A8D3-79B5-4E8C-B221-3E660E1AF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B8702-EA2C-4ABB-AD95-7F619FC84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C7E61-7DFC-4418-8084-462FF3877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B36E3-429D-463F-9136-60E27E001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323D-F12F-46E7-9F44-13F73AFAB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7F791-4E72-4C5F-AB5E-AEDA57D5E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CAFA4-7D51-473D-B492-25D54FF64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29627-3B2A-431C-A802-B93A40538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5F713-78E1-45BE-B188-0DDCAFAF9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7CE5B-6AC6-4CDA-8F23-E5F953578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C7D2E-CA9F-4403-BE2F-908C949AF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7CE08-1F88-4479-8B74-BD354330F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B2FBD-CAC7-491C-873A-D84C36831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DD2D6-63D3-406D-B406-607F2C62D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AD8A2-6779-4936-A162-D6236F958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FBDF-DDBC-4D7A-A928-44C85923D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056F0-EBB3-4BE8-A0C0-2FEA6F756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29A99-9910-4CF7-AD00-0326F81C4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B7FA6-E7B3-42EC-A3EC-C09617319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D6738-8A83-4E7E-976E-3E42287D6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1C2E2-F3A6-433B-BDAB-4BFE84049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ECBD7-F0DA-4AA1-9BE4-3C793A351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98DB39-4336-4A3A-8800-68848E391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DDB7A-E2A2-43AC-B012-337A8069B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1BC6F-7AEB-442D-93FC-D8823A7B2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1AFB5D-6A98-4B33-B2A6-32961D48B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E1AF-6F5E-48A3-9EB2-11D1164F8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EC21C7-7A52-4340-B41F-2749CAD00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829A2E-1503-4DEC-BAE0-D290D3918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8552F0-9AC1-478C-B28F-338E3A936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021AF8-E800-43BD-A86D-8126C5711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4310EC-BD68-4195-A0AE-9E4190FAE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8251F3-7DA7-4B61-AF95-646F6AE0C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11E59A-532E-46A1-884C-00A6A010A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A303E6-C858-4A51-B99F-F85376131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7D25D6-32DE-422D-B0D2-41CE5FB81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6328C9-A0DB-4FE3-B726-3F5173A6E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D559-388B-4C5C-ABCD-6AF489718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0B46FD-E455-44A0-8638-87AE5E311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F2B013-8D1E-4D14-9653-C97F27420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ABA0BD-C1C0-4A6F-AE98-CAD9BE592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8C81BA-1207-43AD-BD35-B3D1DD274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1A461B-74B5-4EED-ABF8-FB1EF8C1D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390B50-E8F1-4EFE-9015-B0816D4E6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A64EC2-C0BA-413F-8442-BDAEA4E88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ED8F1C-A496-44CA-9577-53A2256B3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82563B-2D38-4A51-99B2-C824D8E8F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16DBBC-664C-4E72-BA7F-F0320F969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5146-792E-4AF2-BD97-2654234F0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429BC5-5695-47FF-B77D-42C40CEEC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DBC6A4-3B53-4DA8-AA94-4F94F2EF9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76883F-F548-4CEA-BE0F-6BA4BFE71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973CF8-EA36-4213-A979-F9FE59D32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B5331F-2142-49E9-BA04-15A12E0A9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6D42F6-4E7A-4CC8-AE3B-2D3AAB283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E584AD-D0F2-4C85-9413-9E84E7240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5A858F-5D8D-4BDD-818D-DD64B939D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E3990B-CF1F-4394-886D-ABF179F9E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331800-983A-436C-8BE4-20C7DADF6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CC45-22B6-43C6-82AA-2E618F06D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2BCE03-D915-4284-9B11-44CA950FB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F8E9FE-AC2B-48F8-BF3E-1496D5C9F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55FED0-1805-4346-BB54-058851B87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0C26D6-6577-4A47-8D5E-BC631A68C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3CA27C-D091-4CB6-B6E4-CB02AFC88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3B1573-0071-40F0-9816-1DBBA2E29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1B7039-9C72-4A66-9473-4A5B6E840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C4785B-7DAB-4863-9AA0-EC71D81E8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4360EC-83A0-4097-8B14-7E389C6AC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84C3C3-3026-4F9A-A08F-1BC6895C6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2B90-8823-4F17-AD68-F02C1F3D0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0FCE7B-F6BF-4EDB-9D63-8B17E9074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48F8E4-DD0C-4AF8-B476-C384E2B6D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FFD121-7C92-4177-BD93-4450BBF66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53B4B3-D709-475E-BE11-C31C94B09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A9E41F-DAE0-471C-8664-83A00D750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DBCF1B-A970-4B1F-A455-8F3915C65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E27103-E639-46C9-A20D-3B826726B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A3894-6816-4A41-92FA-2518ACC38540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Прямоугольник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A3C95-2732-4325-A402-FA1AA7DC962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Прямоугольник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FF8A5-7DDE-40DC-8150-4DE260AF8AF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66CB3-364E-40D1-91C8-0E5EBAB2A870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Прямоугольник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Прямоугольник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E1A43-54C9-4521-89B3-7F0D02F656A8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Прямоугольник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Прямоугольник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7F406-CAC7-4272-8F94-12AA42D16996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Прямоугольник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Прямоугольник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CAAD3-5C36-49AC-840B-0CD3D6C2327D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D6F37-DD36-4CD0-AD41-48E493E19FE8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Заголовок 4" descr=""/>
          <p:cNvPicPr/>
          <p:nvPr/>
        </p:nvPicPr>
        <p:blipFill>
          <a:blip r:embed="rId1"/>
          <a:stretch/>
        </p:blipFill>
        <p:spPr>
          <a:xfrm>
            <a:off x="298440" y="512640"/>
            <a:ext cx="8516880" cy="384660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685440" y="5181480"/>
            <a:ext cx="8077320" cy="150048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d4d4d6"/>
                </a:solidFill>
                <a:latin typeface="Times New Roman"/>
              </a:rPr>
              <a:t>  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в рамках секции учителей физики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«Формы и методы работы учителя по повышению образовательных результатов по учебному предмету»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Rectangle 2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 txBox="1"/>
          <p:nvPr/>
        </p:nvSpPr>
        <p:spPr>
          <a:xfrm>
            <a:off x="990360" y="1600200"/>
            <a:ext cx="7692840" cy="49528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 Оценка уровня квалификации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) Предметные компетенци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) Методические компетенци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) Психолого-педагогические компетенци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) Коммуникативные компетенци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60 баллов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!!!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Аттестация на Едином национальном портале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Rectangle 2" descr=""/>
          <p:cNvPicPr/>
          <p:nvPr/>
        </p:nvPicPr>
        <p:blipFill>
          <a:blip r:embed="rId1"/>
          <a:stretch/>
        </p:blipFill>
        <p:spPr>
          <a:xfrm>
            <a:off x="317520" y="152280"/>
            <a:ext cx="8375760" cy="126216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 txBox="1"/>
          <p:nvPr/>
        </p:nvSpPr>
        <p:spPr>
          <a:xfrm>
            <a:off x="914040" y="1827360"/>
            <a:ext cx="7769160" cy="4573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) Сведения о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ложности деятельност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условий профессиональной деятельност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) Сведения о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динамике образовательных результат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оответствующих обучающихся за последние 5 лет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) Сведения об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индивидуальных достижениях учител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включая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учет мнения обучающихся и выпускник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окончивших организацию не ранее, чем за 4 года до аттестации учителя (мнение выпускников на сайте путем заполнения опросного листа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0 баллов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Rectangle 2" descr=""/>
          <p:cNvPicPr/>
          <p:nvPr/>
        </p:nvPicPr>
        <p:blipFill>
          <a:blip r:embed="rId1"/>
          <a:stretch/>
        </p:blipFill>
        <p:spPr>
          <a:xfrm>
            <a:off x="1365120" y="291960"/>
            <a:ext cx="732168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3" name=""/>
          <p:cNvGraphicFramePr/>
          <p:nvPr/>
        </p:nvGraphicFramePr>
        <p:xfrm>
          <a:off x="914400" y="1523880"/>
          <a:ext cx="8001000" cy="5015160"/>
        </p:xfrm>
        <a:graphic>
          <a:graphicData uri="http://schemas.openxmlformats.org/drawingml/2006/table">
            <a:tbl>
              <a:tblPr/>
              <a:tblGrid>
                <a:gridCol w="4002120"/>
                <a:gridCol w="3998880"/>
              </a:tblGrid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)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ценка квалификации учи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 бал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)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ценка результатов профессиональной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бал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)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ценка динамики образовательных результатов обучающих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бал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)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ож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эффициент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 1,00 до 1,2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)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ивидуальные достижения учи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не более 2-х по 5 баллов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баллов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 5+5, + 5 – мнение выпускников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9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!!! Единый федеральный минимум баллов -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менее 50% от минимального количества балл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Rectangle 2" descr=""/>
          <p:cNvPicPr/>
          <p:nvPr/>
        </p:nvPicPr>
        <p:blipFill>
          <a:blip r:embed="rId1"/>
          <a:stretch/>
        </p:blipFill>
        <p:spPr>
          <a:xfrm>
            <a:off x="317520" y="152280"/>
            <a:ext cx="8375760" cy="126216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 txBox="1"/>
          <p:nvPr/>
        </p:nvSpPr>
        <p:spPr>
          <a:xfrm>
            <a:off x="914040" y="15238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552600" indent="-552600">
              <a:lnSpc>
                <a:spcPct val="90000"/>
              </a:lnSpc>
              <a:buClr>
                <a:srgbClr val="f0ad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тель должен быть ознакомлен о сроках аттестации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не позднее, чем за 30 дне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до начала аттестационных процедур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52600" indent="-552600">
              <a:lnSpc>
                <a:spcPct val="90000"/>
              </a:lnSpc>
              <a:buClr>
                <a:srgbClr val="f0ad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ртификат выдаётся на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5 ле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52600" indent="-552600">
              <a:lnSpc>
                <a:spcPct val="90000"/>
              </a:lnSpc>
              <a:buClr>
                <a:srgbClr val="f0ad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удет дано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Заключение с рекомендациям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о совершенствованию профессиональной квалификации;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52600" indent="-552600">
              <a:lnSpc>
                <a:spcPct val="90000"/>
              </a:lnSpc>
              <a:buClr>
                <a:srgbClr val="f0ad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Две формулировки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установит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высшую) квалификационную категори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казать в установлени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высшей) квалификационной категории (Протокол)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52600" indent="-552600">
              <a:lnSpc>
                <a:spcPct val="90000"/>
              </a:lnSpc>
              <a:buClr>
                <a:srgbClr val="f0ad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ттестация не ранее, чем через 2 год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позднее, чем через 3 года (обязательная заявительная после 1 года)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52600" indent="-552600">
              <a:lnSpc>
                <a:spcPct val="90000"/>
              </a:lnSpc>
              <a:buClr>
                <a:srgbClr val="f0ad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нные о прохождении аттестации сохраняются в Едином национальном портале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Заголовок 3" descr=""/>
          <p:cNvPicPr/>
          <p:nvPr/>
        </p:nvPicPr>
        <p:blipFill>
          <a:blip r:embed="rId1"/>
          <a:stretch/>
        </p:blipFill>
        <p:spPr>
          <a:xfrm>
            <a:off x="298440" y="2724120"/>
            <a:ext cx="8474040" cy="1927080"/>
          </a:xfrm>
          <a:prstGeom prst="rect">
            <a:avLst/>
          </a:prstGeom>
          <a:ln w="0">
            <a:noFill/>
          </a:ln>
        </p:spPr>
      </p:pic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Jakovleva-NG</cp:lastModifiedBy>
  <dcterms:modified xsi:type="dcterms:W3CDTF">2018-11-07T07:28:55Z</dcterms:modified>
  <cp:revision>2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